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982-E7FF-4D4A-B107-861EA6F1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F0D-5F2B-4F47-BD2C-0D333C2B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FE3-D26F-4654-8C8B-DC658B32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C0C7-A1DD-48AD-9DE5-5D2852B1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54CEB-D8E7-4BFC-9E1D-92933FA7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DA97D-D3FC-4813-B19F-0C36FDFD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B91FC-91A3-476A-85B5-3DC2E3D4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CA6EC-F91C-4EC6-A6C5-FC2B294A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1682D-A96B-427D-9A23-77AE272C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5C210-34A1-4663-B29D-A28723D7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5E49D-C319-4DCB-8DFC-85293843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1DD3-7A96-4D99-B412-FCAE8A0B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1DA75-8195-4B4E-918F-0A5705CF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63463-A6AE-4715-B6D9-ECF087BC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2B394-4F96-4BD2-A1E4-19B04D8B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AF812-98F1-4DF7-BAE3-D273F977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108B1-403D-4459-892E-C845DBC1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A84-4478-4BB6-AC7C-D38ADE87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611-2EBB-49EC-BCFD-C362E06C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971-C8F5-44D8-9648-18A94079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EFC-8B0B-4518-9AF6-DBD8E219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67F-8E85-4583-A8BB-F9312A58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214-FB90-4E42-84BD-A53F103A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D33-438C-48A1-B596-42DBC7B1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DAF2-D512-42EF-8128-FEE022C0FE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7A78-8CCD-453B-A898-F3B17B9E59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32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e3e3ff"/>
                </a:solidFill>
                <a:latin typeface="Arial"/>
              </a:rPr>
              <a:t>Сабақтың жоспа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. Ұйымдастыру кезеңі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Сабаққа кіріспе (Оқушыларды сабақтың жоспарымен, мақсатым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таныстыр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. Үй тапсырмасын сұрау – (15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Тақырып мазмұнын сұрап шығу (дайындалып келген оқушылардан сұр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Суретпен жұмыс (құстың зәр шығару жүйесінің құрылысын ат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“Біліміңді тексер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в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І. Жаңа сабақ – (20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Кіріспе сө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Жаңа сабақты түсінді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Ү. Жаңа сабақты пысықтау – (7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“Кім жылдам ойынын” өткі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. Оқушы білімін бағалау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І. Үй тапсырмасы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e3e3ff"/>
                </a:solidFill>
                <a:latin typeface="Monotype Corsiva"/>
              </a:rPr>
              <a:t>Олар: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10364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5084640"/>
            <a:ext cx="374508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Эритр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5084640"/>
            <a:ext cx="403236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Лейк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Monotype Corsiva"/>
              </a:rPr>
              <a:t>IV</a:t>
            </a:r>
            <a:r>
              <a:rPr b="1" lang="kk-KZ" sz="4400" spc="-1" strike="noStrike">
                <a:solidFill>
                  <a:srgbClr val="e3e3ff"/>
                </a:solidFill>
                <a:latin typeface="Monotype Corsiva"/>
              </a:rPr>
              <a:t>. Жаңа сабақты пысықта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А) “Кім жылдым” ойыны (Оқушыларға жаңа сабақтан сұрақтар қойылады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1. Қанның құрамына қандай заттар кір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Эритр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3. Эритроциттердің организм үшін маңызы қанда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4. Лейк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5. Эритроциттер қандай мүшелерде түзіл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6. Қан газ алмасудан басқа тағы қандай қызмет атқар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7. Лейкоциттердің эритроциттерден қандай айырмашылығы ба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8. Эритроциттерді қанның қызыл түйіршігі деп неліктен атай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9.Антидене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0. Табиғи иммунитет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1. Жасанды иммунитет қалай пайда бол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Оқушы білімін бағала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I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Үй тапсырмасы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7200" spc="-1" strike="noStrike">
                <a:solidFill>
                  <a:srgbClr val="ffffff"/>
                </a:solidFill>
                <a:latin typeface="Bookman Old Style"/>
              </a:rPr>
              <a:t> 39 оқ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Үй тапсырмасын сұра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 Тақырып мазмұнын сұрап шығ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Ә) Суретпен жұмыс (оқушыларға құстың зәр шығару жүйесінің құрылысын айтқызу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Б) “Біліміңді тексер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Ә) Суретпен жұмыс (құстың зәр шығару жүйесінің құрылысын ата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Б) “Біліміңді тексер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Көпжасушалы жануарлар организмінде түзілетін сыртқа шығарылуы тиіс заттарға нелер жатады? Ол заттарды тізімнен тері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Оттегі                                              - несе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Көмірқышқыл газы                         -  ваку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 материалдары                  - нәжі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нның қызыл түйіршікте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Сол жақта көпжасушалы жануарлардың зәршығару мүшелері, оң жақта жануарлардың тізімі берілген. Зәршығару мүшелерінің қайсысы қандай жануарға тән екенін анықта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А. Бүйрек                           1. ша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Ә. Жасыл без                    2. ги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В. Несепағар                     3.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Г. Жабынды қабықша       4. паразит аме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Ғ. Вакуоль                          5. кірпікшелі кебіс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e3e3ff"/>
                </a:solidFill>
                <a:latin typeface="Monotype Corsiva"/>
              </a:rPr>
              <a:t>Жаңа сабақ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Тақырыб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5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kk-KZ" sz="5400" spc="-1" strike="noStrike">
                <a:solidFill>
                  <a:srgbClr val="ffffff"/>
                </a:solidFill>
                <a:latin typeface="Monotype Corsiva"/>
              </a:rPr>
              <a:t>Көпжасушалы жануарлардағы қан, лимфа және қанайналым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3e3ff"/>
                </a:solidFill>
                <a:latin typeface="Tahoma"/>
              </a:rPr>
              <a:t>Сабақтың мақса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Білімді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Көпжасушалы жануарлардағы қан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лимфа және қанайналым жүйесімен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ын оқушыларға таныстыру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Дамытушылық: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з бетінше қорытынды жасауғ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ағдыландыру, танымдық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білеттерін  дамытып, ізденіске бау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Тәрбие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Оқушылардың  жануарларға дег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үйіспеншілігін оята  отырып, тәрбиел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Monotype Corsiva"/>
              </a:rPr>
              <a:t>Жаңа сабақ жоспа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А) Кіріспе сө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 Қанның организмде атқаратын қызме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 Қанның құра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В) Эритроциттер, Лейкоцит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Организмнің қанайналым жүйес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Қорытын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e3e3ff"/>
                </a:solidFill>
                <a:latin typeface="Monotype Corsiva"/>
              </a:rPr>
              <a:t>Қанның құрам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00360" cy="550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4716360" y="3716280"/>
          <a:ext cx="3742920" cy="2160360"/>
        </p:xfrm>
        <a:graphic>
          <a:graphicData uri="http://schemas.openxmlformats.org/drawingml/2006/table">
            <a:tbl>
              <a:tblPr/>
              <a:tblGrid>
                <a:gridCol w="1006560"/>
                <a:gridCol w="273636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қан плазма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қан жасушал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09:49Z</dcterms:created>
  <dc:creator>комп</dc:creator>
  <dc:description/>
  <dc:language>en-US</dc:language>
  <cp:lastModifiedBy>Admin</cp:lastModifiedBy>
  <dcterms:modified xsi:type="dcterms:W3CDTF">2010-01-19T16:39:15Z</dcterms:modified>
  <cp:revision>7</cp:revision>
  <dc:subject/>
  <dc:title>Сабақтың жоспары</dc:title>
</cp:coreProperties>
</file>